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3A9-2E1B-4276-BFD7-4585DDD7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FC8-C091-4FA2-B55F-C1627A58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AAAB9-30EE-4003-9DFC-F7EA34DC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E74A7-F1CA-4D10-AD12-96C4DA51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F940A-887E-4B7A-A4E0-A260723F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76FB1-C6F8-43CA-953B-0BDF74E5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F5AF6-CABC-4B61-8B78-42BA3CA9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4843E-AEC6-4262-96CC-D1998FBE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45C3A-A8B5-4EB6-A52B-F690D574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C0723-0978-4E1A-B88D-4C0DBF9E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FA446-7215-4A67-ABD0-7E0CCD45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8F819-0A53-4C50-B753-1D50A856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8EC-E4AE-440E-85A5-B88B0861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0D2FF-EBF6-4D53-A7D6-967C09FC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59C9F-CFA1-4677-8F1E-EA61B2D6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CD30B-7439-42E4-853B-C74C83A5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06891-0BBC-4ADA-9EBF-99DEFBDF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BA415-11C4-40A6-A82D-2CCADF17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C4B6C-A0FB-4D7A-8DB2-0F6C09D6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AF1CC-A759-46D3-8CA3-2648BAC3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61B4A-B165-4A5F-B57A-B7DB7999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911D5-BC68-4556-9B6B-1DDF816B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99EFB-C5BE-4EA1-8555-3909931E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50B-340B-49CD-B323-F9DC1ABA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8E0B1-5C58-44C4-AB83-3B5B3673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B3D05-F19A-42A5-B977-C76A33D3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4BE17-B38F-4896-ACD2-0F30AD32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B5443-D4FF-4840-91F7-EE283FEB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722CE-6813-4B92-80BC-FA4ABDA1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BB6A0-AC80-4687-844E-4D482A29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2F746-2D97-4D33-95DF-939BB7DC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3FFB3-37C5-4DB3-BC27-3DE4AFA9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E5A28-8C7C-456A-BCBE-27D902F0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A0152-D221-48C7-A4B1-38D09AAD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838C-BCD2-43CE-AEC6-D687F58B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D7646-B4AB-4269-9343-6BFF3AA6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6BDAC-5AE5-455C-AE55-6D9FB100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7AD01-5F60-479B-A30C-97EB6ECE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C22DF-C11A-4B14-BED9-B57E9B18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E4209-7743-46AF-AC60-82E097A0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8BAAA-405D-42E1-A5A0-E66DE373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9CF04-84E6-46C2-842E-682E4FA3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94A4D-4524-426D-BE5A-13AD7E49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C98B0-D062-45FC-824A-4F0DFE26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FE2A9-16A4-464D-8BC1-F469F62F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044A-A334-4576-B957-92035871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CEF5B-1C56-49BC-A1C4-A7D9E13F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659B1-7D3B-48AC-948D-C3C7A1F9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D2B65-C3E9-4841-BE9F-7B3C0B0B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54D53-D615-4032-9723-3A450152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B7B53-B859-435C-A0E3-C2517D85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15BA6-24E0-417F-9430-58A6CB6E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E9120-D0B6-466E-A4DB-B9ACE537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3A431-8FAD-4762-9EE2-DEA1810D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EF377-D86C-43FA-A01E-B6761240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43C26-8E2B-4A72-AC5D-0AF6D5D6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C8DC-DA09-4C55-9F2F-C16EFC7A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CDA26F-8442-417A-8FE4-3BAC1C03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F7731-3327-4223-9572-CC2C8482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4192C-01A9-49E2-8EAD-13C23541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14A22-E19F-4F8F-8555-430797C6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E6BFE-AEF7-43E6-BB1D-477351BE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16512-E2AA-454E-BE06-C7991168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00EE8-7AA2-4FFC-8110-8CDE7EB2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9460D8-CB4D-4481-B093-177187C7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4504D-6BFE-48B1-9770-C8A78835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DA6BA-91B4-496E-AE30-2944C9FE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B089-638B-4DC3-BC91-85B949A3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D4C8C0-945A-4294-82B8-4DC683D9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40EC5-6600-4894-B25C-265B5BB2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8EE62-88E4-4CCC-8E07-65556CDF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1A09F-7B42-4835-B49E-E5EFD614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7E489-E9E8-4B2E-8701-D6A5B9C1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BF063-7C4C-4DB0-B70C-5CD17191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CA6F9-6583-4DAC-AE70-3C27DBE6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81D29-DEEE-48F8-969F-C0A96AC4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48D5E6-71EF-4914-B673-7F6FB745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8F1B1-7624-4730-859C-8E854F8C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EB23-D045-4F69-80E3-3290ACB6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0D867-B093-471E-95EF-65F86980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A27C64-0AAE-4C9C-8C97-3E6329A8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4121D1-CE49-4015-9770-4C94B040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5BC81-0930-402F-8834-552B272F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54F6A-9AC1-43C2-A5F0-47FAC4A2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EBDDB9-7E1F-499B-B175-9C885976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620984-0C5F-4A4A-8D15-FA898E4A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E92EE-C523-4FE9-AABB-4FFF6A9C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28B1F-E1EC-4E4B-937C-2CA13DDE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47449A-C21C-4988-A302-EAEC4883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B958-D191-4207-A723-BAAEC357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A4573-0725-4D55-8628-D2701765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EB1622-6AA9-4ACF-9530-31E9C73D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38F19B-DF64-43E2-B297-01CD803E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919A4B-4841-4010-9218-1585E4F2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5FEAB4-7264-4CB0-8216-FC26A80E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04AFD8-9F29-4B75-8AB6-F118BFE5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8A538A-7D18-40FA-AEC4-1FC025C8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56571B-92F9-4D1A-BA58-39CD0AB2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7D7A01-7ECC-4315-B0FF-1AD26BBB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5460A8-09EB-473C-8B00-FB433380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7C30-522B-40E0-991C-5F852E61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488A91-8939-49D7-BB89-E9E5DC2A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0A1B0B-3702-4091-86A4-FAD18990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F02AB4-7DB1-4EA3-821C-9C8EDC43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181A14-2FDC-4B37-96F0-7729756A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58E45-1017-4F36-8546-1683A9D4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39E29F-E360-4982-8B10-B1452E91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40DDF-26F3-429B-AB6D-365B0CD1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34F162-2D32-4682-BFC2-06C57492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E44950-ED35-41FD-867F-BC900354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50C1C9-4EE6-4575-BBE8-62A981C7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42E-C4CE-4A33-8C89-50A4E83D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2831-0C39-4C05-A45A-BFD60971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C19567-4DDA-47F7-82B8-AB9C8367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CA2BE-3D5F-48BF-A70A-D19C8B05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FEF49-DBFE-460D-975C-D880861A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50A698-A765-46CF-8C3E-04128F46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9AB0D0-D885-4ECC-93DA-96BDB96C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D916D-7BC4-444E-84D4-48D27AEA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4389E2-27E3-4234-9456-1385BFE0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38E560-A0C6-4735-B53E-F7836C72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52F35-D659-46E9-BC72-F7058B83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79A820-31B1-456D-8750-0FD689EF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8A80-D0D5-4178-89C8-85A1F3E5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F8F523-8920-41F0-BD46-763BD83A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74B857-F93B-49B1-A40F-B2FE5E17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A0FB25-6FC0-482B-95D0-FA675ADF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7988DD-CF06-4D86-8424-CD6890C4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D476FE-EE7A-4D39-925E-87C3869B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DACC19-EC43-4D10-A9E1-443F49F6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480D9E-2823-42E0-B675-3F74791D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0722B0-5E18-4D21-861E-6F5B952C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17BB9A-A547-4361-B227-3A16A63A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BD4348-933E-43F7-B454-40AC08B3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441E-C30E-4AF2-8D84-F4303F8A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ECDC86-45A8-48E1-962B-BA0DB3A9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A1A8C4-92FB-4A3D-9A00-1BBE2912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85E3E9-06E2-4F4F-99FF-EC67EECF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B64464-E030-49CA-AA94-102E3BFA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1FAB0F-CCF5-4816-B4BD-7FC11D7B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BA894-0602-4531-AF9D-CAEC2E72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B4AAED-4387-47E0-8A69-1C859ED0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5C7083-A1DA-4203-9656-CEF82469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7D1C5D-60C6-48DC-AF47-23860E5C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8A0B8D-7803-4FCD-9B25-C4D3497A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FC4B-E0E8-4058-AAD7-4556FBAE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19CAF-A041-4C00-8245-BAEBCD8F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6725FB-C4FE-448C-9B29-CADDA858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D0D0D-B290-4E33-9C1A-6AE537B6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F728BB-CC2C-457D-AAE2-76243A25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86CDCA-2115-4E24-92A9-05D09912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CB39D2-1161-4E10-8A24-6C7A4767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DE07BB-F3B5-4961-9A78-B1D26DEF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0916E6-9B89-4036-8CF0-C544BF50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F95CDF-E030-49A0-8F5D-F186B13E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7CB1C7-E31F-4DCD-B8EF-FA8D5676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3DBA-1A4D-4BDC-A8DC-5E31F474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75CDE-D7D8-4763-B567-1B52E2D1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B552AB-DE54-4584-9D0D-0EBD5D1E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A190D9-49D7-49AA-AA03-A4088595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6BF838-1ACA-4CD3-8F65-FC2A8064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D59138-362B-46B6-8320-DB2BD6A2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7F85E9-793F-4A83-A9C5-64AFABA9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F281F5-B04B-4E4C-B72B-DEA4AEEC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09C3C7-B865-4839-97D3-007F0C72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E600AB-7A65-452E-810A-B0D07D0D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8DE926-896C-49CE-AB99-B50A706F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E7D5E-8FC6-4544-9819-A6E3B8D1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16FF10-CA5B-4677-B8B7-AEA63CE1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20CE73-0DCB-41C9-933F-1FB3CCDF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92B99E-6F46-4F93-A2B1-83818BEC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475722-A45E-41D9-BBE4-A5872DB0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35710C-F87A-4D15-8F82-38BD78EB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6369FE-1ECC-4BB7-ACF9-04F69770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40E537-9E8C-473B-A5AC-58292B0C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C13F43-B215-4091-AC24-5DB90492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4D8D4D-B25E-48D6-AE2F-A9E54BF0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BBCD66-280B-4164-AE58-4E0D3245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8F459-38F7-4928-BB7D-2BF40BA1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D09905-8E53-4259-A33F-C0F8F6AB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613978-AFAD-41DE-8896-069BB0DE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F69237-8EBF-4BF1-8689-58452E16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F3BB91-B44C-4DE3-9F5E-F7F0E85E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DADCDD-5AAA-47D8-A5B1-585494C4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7B148A-0FCE-41BC-8291-1416A679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30A018-0CE0-4CC6-9E19-B039C844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B26269-C84B-4B36-9544-888E26E3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0B6E1B-A501-44B3-B6FB-C02CE4AF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48318A-793E-4A20-96AF-0AAC2EBB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B7B4-0F6D-4CC9-B5E8-1C2BA8C9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2A6F5B-078B-4637-8EF0-79A8D76B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33AE5D-0357-4182-A0BF-AAF47419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DDBD6C-670B-48F8-9E02-B8588BE9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53189D-8D05-4FC1-88C5-6D15C5E2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9DA266-B25C-40E8-AB15-1268B921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513B46-EFD6-4088-851E-134ECE7D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809B54-BC17-4048-BA60-E1690625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D5C9-8666-45ED-8631-2C860B65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F664-A054-49F7-AE94-C2D4BDCE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096-715E-4E76-8665-F4595C69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1C915-302F-4BAF-B4B2-743A6C01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89586-121B-4FA0-8DDF-EC583395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066B2-FD37-45BC-9753-3D8D39D9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42D97-531E-447C-BC9E-647BA8BB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FF815-B145-4C46-A9E5-52A84036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E4C81-08B3-43A0-8A4A-BA07B285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3077-CBDF-4855-80FF-9E3FE74A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AAD65-641E-4FF7-A227-ED13EC58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11FF6-E180-42B1-A729-FF92B88D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95C41-D89B-47EC-940D-9CE7ABB1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07B-F872-4892-9325-02D8075D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6E4C6-4E5E-42B9-BAF0-78DC7684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1EF9-65CF-4BF1-890A-AB2728C7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67D84-67DB-42F0-A9D6-DA0C6865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FEE31-EA43-473F-91E6-B3EADF81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4C8DB-9BF0-4783-B730-1B554B99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6E657-E9F8-40DA-B5A0-193224B1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46EFC-8645-41BA-A77E-045F11BC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67A21-AB61-4AC4-A952-00AE5389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4B5CC-4CE0-46D0-B144-E2E81809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C4AD1-D5F1-4AB7-9220-37914CEF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A14-E60A-454C-B108-8F35BE54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E0622-47BF-41B6-8881-CEE51F3B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80768-DE24-4F40-9595-6774C9F2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08B45-7019-4E11-9FB4-C9F12749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8D88C-0E89-43A5-B7E9-DE1ECED1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2CE7C-B517-4A72-B1F2-B492EEA2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E966B-9507-47E2-8B7F-6A5ED4B7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23935-59F6-4703-B633-E90EB612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05D77-749C-46BF-B5DE-88B05523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6777B-13A4-4984-944F-9B0C1501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AFD86-7D9E-47E2-87CA-DEFE7ECA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D1C-E8D0-4CBB-AED4-AAB07C73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68D97-E32C-4708-9C73-8F686699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D98D6-4A75-4E90-928F-322788A9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E9E50-0CAC-4F29-A7DC-3EEBE6F5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23309-62D6-473B-A349-415E2563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43FD3-D59A-4C1F-B4B0-EEEA38E8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0C82A-7BB2-4A96-BD68-DBCB5AA1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C6BE9-338B-40BA-98F9-63F0F6D7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7A988-B19F-4303-AAAE-701638DB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4259E-7868-4C29-9EA8-EA3F96B6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172EE-356C-4986-8B43-3F8DF5DE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EE0-2C79-4398-8DD0-296A3C2C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57D64-963D-4C24-9BDF-8D6DC04F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EF810-3755-40AC-9F05-9E9057E2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E9CC9-2DD6-4F78-8EDF-F85408B5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F6BE0-6120-4C31-95D9-95177684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085D3-E714-422A-B838-618AB356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86156-C1EA-43BD-B04E-B6798BD4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2381A-A9AA-494B-811A-5EE66A38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78E05-AF23-4A57-934E-572B534E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7E121-A715-45F5-9639-CD4F2D5C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AA64A-6E9A-458E-9D35-93741818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EB7-2259-43F1-A32B-415B3272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B3637-C426-442F-8526-F8E74A93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BDA66-F8F1-4AAA-A4AE-0D5885D1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A2E37-4CF9-4D87-A19D-E93E7523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9A9F2-A733-467B-B808-5F7D1E6C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1BD6C-842D-4A70-A37A-3470AE7E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B465F-0BE8-4BFD-A0FD-35CA1089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61F1B-D694-4709-AF31-E65D5247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58FE9-7F23-4023-A2F9-9B9E6F51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BF641-5853-426F-BD96-0E094D77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857A9-483C-470E-B9E1-59906154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0BD-47E4-4C12-A9EE-69EE65AE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656FB-A340-43D8-AFC8-C4DAEAD2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B704C-3233-4B7F-89E2-62D8D531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4AC02-F966-4D1C-82FE-2EA05BB1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0346F-EF83-4F62-850F-BCE2D299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86A2F-DA80-45CA-AE6A-0A73FFD0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ECCD5-64B3-4C7D-8AE5-1CE1314F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F218E-0531-49A8-A7D5-1E60D369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F9CBD-C309-4EBE-8D2E-926C8FBE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EF3EF-CE4E-4FDA-B442-2AF9B56C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1A387-C7AF-4ABC-9583-A02557BD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9D89-E4DA-4330-A0F3-77DABB4B59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1C7F-4BB1-43D8-A26F-F6D0E0BEEE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91A5-E6FD-4CED-8327-F82585D850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EBAD-9D76-4938-A7A7-B0564EB5EA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36BB-7B15-4699-BBFF-B83AD0542B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3A87-16E2-4AD1-8BFB-167FBB5CAB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1ABB-4DFB-4BD7-A71E-915D9667E7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098F-097C-44D7-ADEC-918CF561AA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DC95-DE3A-4EB1-ABAD-AB577B5D22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73B6-90DB-4443-A2D6-AD0A76D828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35D8-CCE5-404D-9A37-D008E6904C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1BE4-3AF2-4424-9C00-86CE12B525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011D-5BCD-4C0E-B3E8-CA6E71D7C8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CB82-8F55-4AEC-A0F2-EEA5A6008E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99C0-6A8C-4512-8700-C04148D4C1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50B1-15D2-46F0-92A5-8F97525E99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A1F1-4BB9-4235-AF8E-ECFCCC9991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79E7-F0E5-46A4-AA07-CB7701DB5C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A58B-6A87-4373-B98A-37F9652583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E657-D4CD-4C19-970D-193DEFA823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AD61-9E1D-4FA0-B987-FB77A75D1E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3261-3EDB-4D7E-9DB6-8253839324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62D7-B1E7-4165-81F5-B3E728D1BC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FE48-B01B-45F5-B6E6-F24B4AFC95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4CF5-833B-47C8-930F-49964809A1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A125-876E-4F64-9ED3-BD360C5428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4795-0CF4-4974-9DE7-078D1FB3D8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4F3A-CB0A-4D86-B191-2CCB1F086C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DD20-EF5D-4BE8-B2D2-B09793AC01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C6FA-6112-44F5-B724-0C6BC358C4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E8EE-1D14-4FA0-AD5A-4BEAE3962B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FC6F-AA76-4CCC-89DB-42FDB1784E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0747-5E5B-4A55-B01A-BA90B5C4A0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7697-9640-4038-A842-2B1A0D7E17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2BA5-B86D-4C2A-8944-D74BE1CEA1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768A-4AA9-4E12-9A7B-1A347DB89E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46AF-B878-4B73-B418-5D2A6A7EC3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364C-397D-4047-91FA-C944E7A995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F649-E6D9-4871-92F6-04B9A79DCF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3C50-77E5-4B0E-9A2C-2C8A76F054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EB18-4F8E-49B5-84E2-71BDA32DCC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A374-53A7-423E-8B63-A517B14B07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30040" y="3009960"/>
            <a:ext cx="8823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96920" y="1133640"/>
            <a:ext cx="8751960" cy="184464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2" descr=""/>
          <p:cNvPicPr/>
          <p:nvPr/>
        </p:nvPicPr>
        <p:blipFill>
          <a:blip r:embed="rId2"/>
          <a:stretch/>
        </p:blipFill>
        <p:spPr>
          <a:xfrm>
            <a:off x="1344600" y="3767040"/>
            <a:ext cx="7124760" cy="22669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3059280" y="155736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3348000" y="213372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5867280" y="1557360"/>
            <a:ext cx="50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5867280" y="2060640"/>
            <a:ext cx="50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8272440" y="1614600"/>
            <a:ext cx="64944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7999560" y="207504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3708360" y="4365720"/>
            <a:ext cx="64944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3635280" y="5013360"/>
            <a:ext cx="64944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1"/>
          <a:stretch/>
        </p:blipFill>
        <p:spPr>
          <a:xfrm>
            <a:off x="6732720" y="436572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2"/>
          <a:stretch/>
        </p:blipFill>
        <p:spPr>
          <a:xfrm>
            <a:off x="6948360" y="4941720"/>
            <a:ext cx="79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62000" y="700200"/>
            <a:ext cx="8820000" cy="60386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932360" y="223344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1908000" y="42498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2124000" y="62658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533520" y="1809720"/>
            <a:ext cx="8076960" cy="32385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7524720" y="2565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4427640" y="46245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385920" y="504720"/>
            <a:ext cx="8372160" cy="62010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5292720" y="1901880"/>
            <a:ext cx="331164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5435640" y="260820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5292720" y="494172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5364000" y="5589720"/>
            <a:ext cx="3311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681120" y="1643040"/>
            <a:ext cx="7781760" cy="35719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5076720" y="2620800"/>
            <a:ext cx="33829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5003640" y="3284640"/>
            <a:ext cx="338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328680" y="1743120"/>
            <a:ext cx="8486640" cy="33717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4932360" y="321300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4859280" y="3860640"/>
            <a:ext cx="396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1047600" y="1809720"/>
            <a:ext cx="7048800" cy="32385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5148360" y="2781360"/>
            <a:ext cx="287964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28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04760" y="104760"/>
            <a:ext cx="8934480" cy="6648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755640" y="1036800"/>
            <a:ext cx="309564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532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755640" y="234936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684360" y="2997360"/>
            <a:ext cx="532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684360" y="370188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826920" y="4292640"/>
            <a:ext cx="532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8"/>
          <a:stretch/>
        </p:blipFill>
        <p:spPr>
          <a:xfrm>
            <a:off x="826920" y="494172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9"/>
          <a:stretch/>
        </p:blipFill>
        <p:spPr>
          <a:xfrm>
            <a:off x="826920" y="5589720"/>
            <a:ext cx="532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0"/>
          <a:stretch/>
        </p:blipFill>
        <p:spPr>
          <a:xfrm>
            <a:off x="971640" y="6237360"/>
            <a:ext cx="532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14480" y="309600"/>
            <a:ext cx="8915400" cy="6238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900000" y="3846600"/>
            <a:ext cx="431964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841320" y="4494240"/>
            <a:ext cx="468000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826920" y="5157720"/>
            <a:ext cx="525780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755640" y="5805360"/>
            <a:ext cx="5257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9:4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